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1E7D-D620-4DA8-9E5B-7A61434A4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DC82-BA04-4070-9E4B-1FE84FFD1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9899-AF78-4028-92B6-811D7E3B7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5CF5-8D82-4401-8F38-E15E47F44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10690-0555-49DE-A09C-0CB52E32F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4CD74-5BCF-4146-AF02-DE75ADF6F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B582D-BDA9-4ED4-8C6E-DE1EE2822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7EF35-D277-42B1-A101-E72CD66CE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179EC-D3FE-4B21-878F-901F21C6B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BB0C5-5D0B-4E0C-A2CA-B0AA018A7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27DEB-5CA9-4250-83A5-D6B29C76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56AD-762D-44E9-AD84-192286609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7DDC5-5F17-476B-BCE9-30F57292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21AF4-F504-4315-AA4D-492267ED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AB043-DFFD-4228-9640-050CB7FCF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9DA21-E535-47F8-A61A-0288FF55C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82087-887A-40C9-92DE-032F95090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8153-CE1B-41FA-9D4E-20A963F1D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9B68-61DA-4D21-8070-5C0199F58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CAD3-9652-48EE-8030-01AD5F818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8673-D089-4E15-A389-E0ED1B4FD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047D-C4F8-4A82-A23D-C2587A22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8561-E9A6-49BA-BD39-8573A446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8318-C40B-4FFF-A084-39C66D64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756E0-B9F2-4930-9098-E9CA0D9FA45E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287A4-6CC1-4A66-B654-2293682933FB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he Story of Ruth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Quarter 3; Lesson 2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uth 1 – 2; Pages 125-129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 The Days of the Judges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26360" cy="14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Boaz Shows Favor To Ruth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Ruth 2:10-17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80880" y="1598400"/>
            <a:ext cx="792504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uth overwhelmed by Boaz’s kindnes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planation for his fav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e also felt sorry for her -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idowed and taking care of a widow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r from home in Moab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or and living among strang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az continued his fav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he eat lunch with his own hired peop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rranged for her gleaning to be productiv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1600200"/>
            <a:ext cx="85341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828800" y="457200"/>
            <a:ext cx="5486400" cy="601992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7262640" y="3581280"/>
            <a:ext cx="1881360" cy="213372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26360" cy="14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Ruth Reports Back to Naomi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Ruth 2:18-23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0" y="1598400"/>
            <a:ext cx="777240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he took the barley and some “left-over” food home to Naom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omi impressed by her good fortun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uth told her about working in the fields of Boa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omi was very excited –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was near kin to h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had a “right to redeem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uth worked in Boaz’ fields throughout the harvest – both barley and whe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04920" y="1600200"/>
            <a:ext cx="85341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26360" cy="14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E-lim’e-lech and Na-o’mi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Ruth 1:1-5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160" y="1598400"/>
            <a:ext cx="792468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Bethlehem of Judah famil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wo s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h’lon and Chil’i-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ved to Moab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abites descendants of Lot – Gen. 19:37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limelech di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ns married Moabit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hlon married Rut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ilion married Or’pa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th sons di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1600200"/>
            <a:ext cx="85341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576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 flipH="1">
            <a:off x="2133720" y="1905120"/>
            <a:ext cx="4114800" cy="350496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2971800" y="4648320"/>
            <a:ext cx="3657600" cy="182880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477120" y="152388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Bethlehe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705720" y="42670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Moab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7605720" y="1676520"/>
            <a:ext cx="1538280" cy="213336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26360" cy="14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Na-o’mi Returned to Bethlehem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Ruth 1:6-22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1598760"/>
            <a:ext cx="77724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omi and her two daughters-in-law began the journe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omi urged them to return hom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he rationalized why they should retu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rpah returned hom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uth explained her reasons for going 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 affectionate  devotion -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ad Ruth 1:16-17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eople of Bethlehem greet th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04920" y="1600200"/>
            <a:ext cx="85341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676520" y="228600"/>
            <a:ext cx="5333760" cy="64008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304920" y="1220760"/>
            <a:ext cx="8610480" cy="56372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2133720" y="45720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Bethlehe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1943280"/>
            <a:ext cx="6324480" cy="47433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410080" y="1981080"/>
            <a:ext cx="3733920" cy="241488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3124080" y="152280"/>
            <a:ext cx="2752920" cy="156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Bethlehe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6394320" y="3581280"/>
            <a:ext cx="2749680" cy="327672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26360" cy="14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Ruth Gleaned in the Fields of Boaz</a:t>
            </a:r>
            <a:br>
              <a:rPr sz="40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(Ruth 2:1-9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1920" y="1598400"/>
            <a:ext cx="853452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az was kin to Naomi’s husband -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fluential man with property and wealt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on of Salmon and Rahab (Matt. 1:5), 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 the linage of Christ – Obed, Jesse, Davi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omi and Ruth were po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az noticed Ruth was a hard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ork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ggested she stay in his field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tected her from the me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vided her the best wa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1600200"/>
            <a:ext cx="85341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13:19:35Z</dcterms:created>
  <dc:creator>Frank D Vines</dc:creator>
  <dc:description/>
  <dc:language>en-US</dc:language>
  <cp:lastModifiedBy>Frank D Vines</cp:lastModifiedBy>
  <dcterms:modified xsi:type="dcterms:W3CDTF">2005-03-24T00:09:05Z</dcterms:modified>
  <cp:revision>14</cp:revision>
  <dc:subject/>
  <dc:title>Ruth</dc:title>
</cp:coreProperties>
</file>